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0224-E082-4381-A4B4-03E9CD13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9FB2-573D-47F4-8CC8-2B509749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ED0F-D1B9-41B5-B2BC-9402B693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D84C-4D29-43C4-8983-19A3FD56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7588-F11F-49E5-AE28-529C008D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1CD8-9541-42EE-911F-191463A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DA1A-E92F-446B-B194-7485DE10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88A-E276-4494-914B-531FC711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F31-62E8-4B15-AC0C-D00144CB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AABA-82B6-4CD0-915C-22B71F18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3CE-E1F0-438D-ACAE-6E6371E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B215-9669-4D34-8E8D-8966A28E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FF4B-7EA2-4BAE-89B2-D38C24E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0C85-83C7-4153-87D9-6DFFD13C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4D5F-5348-4994-9112-39A2C0DF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892A-1523-4A0F-9CC8-E1E0165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289-B802-4288-8DE2-80EFD83F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5BBF-C000-422C-B1C3-A533987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3D9C-9A65-4E2D-918E-C6091D4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37FA-AFB9-47A5-879E-76C486AA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EEF8-DEBF-4D4F-A0B8-C864FC4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C747-9C07-4704-AB6C-4091C68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FCB1-2B25-4AF9-98E5-22B0CD4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758C-541E-4A8C-B87F-26CAE77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82F-3C20-40E0-B0B5-4EBDDC5F39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FC21-86B5-4611-AD14-76A51DAC23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395 Intern Projec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ttle Feet, in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laska Walking St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Joshua Pa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alid_Use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n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valid users can manage table data within the Data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457200" y="1447920"/>
          <a:ext cx="82296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448920" cy="74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stomer Management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new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ID is obtained by an MD5 Hash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alues to be hashed are FirstName, MiddleInitilal, and LastName. After the hash is complete the Hashed value is stored in the  CustomerID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Inserting a New Customers Result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4489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ject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and implement a Web-based database Management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web based interface to manipulate Customer, Item Description, and Sale tables within the data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 queries to search for specific Customer data, Inventory Items, and Sales Transactions within the datab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Item Description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anagemen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new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a ItemID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ale Manage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new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te a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a Sales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sons Behind Proje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girlfriends M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ook keeping done by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or an extremely messy paper tr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omputerized system being us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for QuickBooks being used to balance monthly credit card trans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ftware I Use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Ser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used to make the qu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SQL command line cl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 used for the database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c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 Gui software I used to edit my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mport excel files I created to hold some tabl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sons Cont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ble to quickly look up a customers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customers purchase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ing track of a customers individual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ing able to search  specific sales history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search for Who bought What, and When in one search by using just a SaleNum sear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base Tabl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_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3726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0866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9601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3:22:48Z</dcterms:created>
  <dc:creator>CPUser</dc:creator>
  <dc:description/>
  <dc:language>en-US</dc:language>
  <cp:lastModifiedBy>CPUser</cp:lastModifiedBy>
  <dcterms:modified xsi:type="dcterms:W3CDTF">2006-12-07T22:47:12Z</dcterms:modified>
  <cp:revision>38</cp:revision>
  <dc:subject/>
  <dc:title>395 Intern Project</dc:title>
</cp:coreProperties>
</file>